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FC29-F40F-4813-B550-520A0C22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9D2B-8190-4FFA-A72F-5F2C90B7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B04-E6D6-4153-9FC9-671EF8485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A794-ADF5-4535-B769-0B4DEC32A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ass out learning style inventory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, “What type of learning style best describes you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0669-3A2B-4BA6-BEC7-722CC79B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how learning style inventories online; pass out learning style inven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40E9-7547-4BF2-B583-1402C8803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C29-1D59-40D4-B523-60971F38D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6E45-6BA8-4429-B178-C32D13AE9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156-750D-4097-820F-00A81A9A9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AD37-3086-4081-95CC-8C29873A6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E075-8DFF-43C7-95E8-BE8D2BEC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7FD-427B-4F64-B898-C5D7108F8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94C-404C-4711-98FD-71774976B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D25-66C8-4ADE-8834-B110E5AB4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3E4-C411-4800-9395-066950D4F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934B-F6FE-4C81-91EA-8815B9435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BBE-78F0-48F6-A745-C06B9D3FE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AE6-C193-407B-901B-2B08DE74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4D4E-F830-43B1-BEC4-7CC82D1E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835-8A7D-466C-9C83-3C67675ED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EC5-936E-465E-AE15-1BFB6372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F4A4-709A-4E55-9543-FEB14161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C1AD-A5C3-4E12-A052-EDFB6755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1C27-F0CE-4AAE-A3FB-5BAB7ED0C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3FB2-4563-41FB-9BAC-24B241239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3EBE-1AE7-49AE-AE36-C416BBC2F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BC3D-2F89-48FA-9FCE-FCF8A202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1E0F-F461-40D0-9BDA-DCA63803F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69A5-7EDD-4C39-8321-FBB32CC7B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B200-8BCC-4342-BABA-086F8C939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E84-447E-4617-928A-711D5D44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5A1-AAEB-4FAD-A434-6EE8C4B5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1CC-42EA-45E5-AC0D-D586652C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E85-A6D1-49D2-B7A0-B5EE1BE7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C68-64A0-41CA-B9C4-5D19CB15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9F04-2AAC-4394-917E-1CE41EB9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6360-B5A2-40B2-9112-D71324CF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5C46-8FCD-4057-8D23-020FF2C7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30E4-4C9E-45C4-A649-ABC23DE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72D9-F95C-433E-81E6-2644EF5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D4EB-7375-4B58-B6AD-02E25753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9210-D8D9-4662-829C-01A294FF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EAD-9FE9-4E96-A4BE-893F1065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684A-01E8-4DF2-8004-93EBEE9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7985-917C-4A7A-9C2F-5A5325E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1468-E04D-47AF-9669-D2A3019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6816-EDFA-471D-8239-3112A7EE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CFC5-535F-42D6-B282-FDE2A87C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947-7E0E-4190-9D8B-33EEF4D8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533-07CB-45CD-8117-BFE84D24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25D-A9B2-4FB3-9347-3F6D516C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F55-4919-4D82-85CB-4C84108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43E-88F8-432A-A053-5F709635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DB8-578F-4FD9-BFBC-B9747252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CEC-B827-4E36-B7F7-A4D809A4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DC77-7E56-4D09-B573-6F4A8124B13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WEB\IMAGES\OBJECTS\SNEAKERS\QGO50002.GIF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E:\WEB\IMAGES\OBJECTS\SNEAKERS\QGO50007.GIF"/>
          <p:cNvPicPr/>
          <p:nvPr/>
        </p:nvPicPr>
        <p:blipFill>
          <a:blip r:embed="rId3"/>
          <a:stretch/>
        </p:blipFill>
        <p:spPr>
          <a:xfrm>
            <a:off x="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E:\WEB\IMAGES\OBJECTS\SNEAKERS\QGO50003.GIF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E:\WEB\IMAGES\OBJECTS\SNEAKERS\QGO50001.GIF"/>
          <p:cNvPicPr/>
          <p:nvPr/>
        </p:nvPicPr>
        <p:blipFill>
          <a:blip r:embed="rId5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E:\WEB\IMAGES\OBJECTS\SNEAKERS\QGO50003.GIF"/>
          <p:cNvPicPr/>
          <p:nvPr/>
        </p:nvPicPr>
        <p:blipFill>
          <a:blip r:embed="rId2"/>
          <a:stretch/>
        </p:blipFill>
        <p:spPr>
          <a:xfrm>
            <a:off x="616284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WEB\IMAGES\OBJECTS\SNEAKERS\QGO50002.GIF"/>
          <p:cNvPicPr/>
          <p:nvPr/>
        </p:nvPicPr>
        <p:blipFill>
          <a:blip r:embed="rId3"/>
          <a:stretch/>
        </p:blipFill>
        <p:spPr>
          <a:xfrm>
            <a:off x="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E:\WEB\IMAGES\OBJECTS\SNEAKERS\QGO50007.GIF"/>
          <p:cNvPicPr/>
          <p:nvPr/>
        </p:nvPicPr>
        <p:blipFill>
          <a:blip r:embed="rId4"/>
          <a:stretch/>
        </p:blipFill>
        <p:spPr>
          <a:xfrm>
            <a:off x="0" y="387684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:\WEB\IMAGES\OBJECTS\SNEAKERS\QGO50001.GIF"/>
          <p:cNvPicPr/>
          <p:nvPr/>
        </p:nvPicPr>
        <p:blipFill>
          <a:blip r:embed="rId5"/>
          <a:stretch/>
        </p:blipFill>
        <p:spPr>
          <a:xfrm>
            <a:off x="6162840" y="3876840"/>
            <a:ext cx="2981160" cy="2981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EC27-571D-4EE5-BD22-978DB38CE1F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tc.coe.uga.edu/surveys/LearningStyleInv.html" TargetMode="External"/><Relationship Id="rId2" Type="http://schemas.openxmlformats.org/officeDocument/2006/relationships/hyperlink" Target="http://www.greenville.k12.sc.us/hillcrm/lstyles/lsurvey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jc-schools.net/tutorials/vocab/strategi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858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Effectively Differentiate Instruction for </a:t>
            </a:r>
            <a:br>
              <a:rPr sz="3600"/>
            </a:b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All Learning Styles with EduSmart Scienc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189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learn better by listening to explanations than by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ading about th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llow spoken directions well, but have troubl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llowing written direc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ad slowly and prefer to read out lou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njoy oral discussions, working in grou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and giv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ra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re good at explainin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alk to themselves while learning something ne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eed to have things explained oral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an’t keep quiet for long periods of ti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d2db9"/>
                </a:solidFill>
                <a:uFillTx/>
                <a:latin typeface="Arial"/>
                <a:ea typeface="Arial"/>
              </a:rPr>
              <a:t>Characteristics of Auditory Learner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 rot="20956200">
            <a:off x="6157800" y="1084320"/>
            <a:ext cx="582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le 1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8004"/>
                </a:solidFill>
                <a:uFillTx/>
                <a:latin typeface="Arial"/>
              </a:rPr>
              <a:t>Characteristics of Tactile/ Kinesthetic Lear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2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process information best through “hands on”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experiences and whole body mov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science labs, role playing and building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have trouble sitting still, but writing things down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makes learning easi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adventure books and movi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to move around while listening or tal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talk with their han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remember by recalling who did w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to touch things in order to lear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about th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3" name="Picture 6" descr="C:\Users\dockensf\AppData\Local\Microsoft\Windows\Temporary Internet Files\Content.IE5\QFR562QU\MPj04332360000[1].jpg"/>
          <p:cNvPicPr/>
          <p:nvPr/>
        </p:nvPicPr>
        <p:blipFill>
          <a:blip r:embed="rId1"/>
          <a:stretch/>
        </p:blipFill>
        <p:spPr>
          <a:xfrm>
            <a:off x="7315200" y="1143000"/>
            <a:ext cx="8683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8240" y="182844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0d06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65% of students are predominantly visual learner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0d06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20%-30% of students are predominantly auditory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learner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0d06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5%-15% of students are predominantly tactile/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kinesthetic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learner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5238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</a:rPr>
              <a:t>Learning styles research show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盤ﲔ㶡閩盟隌盟障盟"/>
          <p:cNvPicPr/>
          <p:nvPr/>
        </p:nvPicPr>
        <p:blipFill>
          <a:blip r:embed="rId1"/>
          <a:stretch/>
        </p:blipFill>
        <p:spPr>
          <a:xfrm>
            <a:off x="1752480" y="4191120"/>
            <a:ext cx="2819520" cy="2479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5410080" y="441972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can you determine a student’s predominant learning sty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Learning Style Invento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onlin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tc.coe.uga.edu/surveys/LearningStyleInv.htm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intabl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greenville.k12.sc.us/hillcrm/lstyles/lsurvey.ht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1143000" y="7621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Think- Write- Pair- Comp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066680" y="17524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5d"/>
                </a:solidFill>
                <a:latin typeface="Arial"/>
              </a:rPr>
              <a:t>How can this information be used to enhance instruction and impact student achie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600200" y="2703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Think for 30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Write down your thou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Pair with a partner and take turns 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sharing for 30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Group share with those at your table for 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1 minute, taking 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Choose 1 group observation to share 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with the whole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Let’s take a quick break!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Instructional Strategies that are Effective for All Learn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523880" y="1752480"/>
            <a:ext cx="693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stablish learning goals/ objectiv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ue thinking, assess and activate prio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ive questio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non-linguistic represen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operative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enerate and test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vide specific and timely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dentifying similarities and differences 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ummarizing and note taking  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ournaling facilitates reflection and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tacognitive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981080" y="6248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laimer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The Rock Cyc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24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c8004"/>
                </a:solidFill>
                <a:uFillTx/>
                <a:latin typeface="Arial"/>
                <a:ea typeface="Arial"/>
              </a:rPr>
              <a:t>Establish Objective(s)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students can’t hit a target they can’t see - restate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objectives in student friendly langu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enables progress to be track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revisit them at the end of the lesson so students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can evaluate their level of mastery in relation to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the target (Assessment for Learning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2" name="Picture 4" descr="C:\Program Files\Microsoft Office\MEDIA\CAGCAT10\j0293844.wmf"/>
          <p:cNvPicPr/>
          <p:nvPr/>
        </p:nvPicPr>
        <p:blipFill>
          <a:blip r:embed="rId1"/>
          <a:stretch/>
        </p:blipFill>
        <p:spPr>
          <a:xfrm>
            <a:off x="3429000" y="472428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Effective questioning </a:t>
            </a:r>
            <a:br>
              <a:rPr sz="4400"/>
            </a:b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can be used to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pre-assess level of knowled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cue and activate prior knowled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focus lear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maximize student engage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assess mast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uncover misconcep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5" name="Picture 2" descr="C:\Users\dockensf\AppData\Local\Microsoft\Windows\Temporary Internet Files\Content.IE5\2LQDLQC3\MCj04344110000[1].wmf"/>
          <p:cNvPicPr/>
          <p:nvPr/>
        </p:nvPicPr>
        <p:blipFill>
          <a:blip r:embed="rId1"/>
          <a:stretch/>
        </p:blipFill>
        <p:spPr>
          <a:xfrm>
            <a:off x="3809880" y="5743440"/>
            <a:ext cx="990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8004"/>
                </a:solidFill>
                <a:latin typeface="Arial"/>
                <a:ea typeface="Arial"/>
              </a:rPr>
              <a:t>Getting</a:t>
            </a:r>
            <a:r>
              <a:rPr b="1" lang="en-US" sz="4800" spc="-1" strike="noStrike">
                <a:solidFill>
                  <a:srgbClr val="fc8004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c8004"/>
                </a:solidFill>
                <a:latin typeface="Arial"/>
                <a:ea typeface="Arial"/>
              </a:rPr>
              <a:t>to Know You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0" y="1295280"/>
            <a:ext cx="91440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4d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00664d"/>
                </a:solidFill>
                <a:latin typeface="Arial"/>
                <a:ea typeface="Arial"/>
              </a:rPr>
              <a:t>It’s in the Bag”-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Decorate the outside of a bag with your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and campus/district/ information and grades/subjects you t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Choose 3 objects from the table or provid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objects that describe you in som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Pair- share explaining what the items repre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Partners will introduce each other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briefly share what they learned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each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ssess/Activate Prior Knowledge </a:t>
            </a:r>
            <a:br>
              <a:rPr sz="3200"/>
            </a:b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nd Cue Thin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rovides students with a preview of what they will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elps students recall what they already know about 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op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ctivating prior knowledge is critical for learning an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taining new infor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hould focus on information that is essential fo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understanding the concep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n-linguistic Representation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generating mental pictur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using graphic organiz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reating physical mode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drawing pictures and picto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engaging in whole body move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facilitates building vocabular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omprehension and retention as student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onstruct their own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ea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Cooperative Learn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ssigning roles holds students accountable 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grou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creates positive interdepende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romotes interactions and academic discour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rovides for group and individual accountabi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groups should be 3-4 stud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hould be applied consistently and systematical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but not overus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includes formal, informal and base group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12700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Provide Feedback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focus feedback on specific knowledge and skills and 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rovide as soon as possible following the ta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feedback provides students with information that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enables them to determine where they are in relation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to the target (goal or learning objective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hould point out what is correct as well as what is no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tudent initiated feedback is most beneficial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(assessment of learning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ewarding genuine effort has a positive eff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Identifying Similarities and Differenc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omparing important characteristics is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the basis used to identify similarities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and differen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7224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lassifying is the process of grouping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things that are alike on the basis of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7224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reating analogies show how seemingly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dissimilar things are simil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7"/>
          <p:cNvSpPr/>
          <p:nvPr/>
        </p:nvSpPr>
        <p:spPr>
          <a:xfrm>
            <a:off x="990720" y="68580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ities and Dif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981080" y="54100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not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foldable to creat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raphic organ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7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  <a:ea typeface="Arial"/>
              </a:rPr>
              <a:t>Summariz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skill that must be taught and practic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hoose information that is essential in order to understand the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discard information that is not essenti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dd or substitute words for clar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Creating a Group Summar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Give each student 3 index cards pe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subtopi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On each card, students write one th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at is important to remember abou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subtopi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Students share cards, combine statement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 comm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dd statements they agree need to b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dd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4d"/>
                </a:solidFill>
                <a:latin typeface="Arial"/>
                <a:ea typeface="Arial"/>
              </a:rPr>
              <a:t>Using Edusmart Science to support inquiry-based, 5E instruction: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78de"/>
                </a:solidFill>
                <a:latin typeface="Arial"/>
                <a:ea typeface="Arial"/>
              </a:rPr>
              <a:t>Force and Mo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99"/>
                </a:solidFill>
                <a:latin typeface="Arial"/>
                <a:ea typeface="Arial"/>
              </a:rPr>
              <a:t>How does this work with 5E?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ngage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xplore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xplain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labora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valua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Take care of your need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Mute cell phon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Share ideas with the whole group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- jot ideas on sticky no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- place sticky notes in the “parking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     lot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- notes will be shared following brea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8b"/>
                </a:solidFill>
                <a:latin typeface="Arial"/>
                <a:ea typeface="Arial"/>
              </a:rPr>
              <a:t>Group Norm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c8004"/>
                </a:solidFill>
                <a:uFillTx/>
                <a:latin typeface="Arial"/>
              </a:rPr>
              <a:t>Link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8004"/>
                </a:solidFill>
                <a:latin typeface="Arial"/>
              </a:rPr>
              <a:t>Teaching Academic Vocabulary</a:t>
            </a:r>
            <a:r>
              <a:rPr b="0" lang="en-US" sz="2000" spc="-1" strike="noStrike">
                <a:solidFill>
                  <a:srgbClr val="fc8004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8004"/>
                </a:solidFill>
                <a:latin typeface="Arial"/>
              </a:rPr>
              <a:t>Marzano’s Six Step for Teaching Academic Vocabulary and Games                      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c-schools.net/tutorials/vocab/strategies.html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Goals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o explore how to successfully address all student learning styles within the same lesson using effective instructional strategies, inquiry-based “hands on activities” and EduSmart Science – a multimedia science resource for grades 3-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o connect science concepts to environmental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1760" y="1371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verview of Learning Sty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verview of effective instructional strateg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mplement effective strategies and addres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learning styles using Edusmart Scien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me permitting, apply the information presente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- use an Edusmart subtopic to design and present 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“mini-lesson” implementing an effective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instructional strategies and a subtopic from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ne of the EduSmart Science modu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oor Prizes!!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1447920" y="1219320"/>
            <a:ext cx="61722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Arial"/>
              </a:rPr>
              <a:t>A word about Journals</a:t>
            </a:r>
            <a:r>
              <a:rPr b="1" lang="en-US" sz="8000" spc="-1" strike="noStrike">
                <a:solidFill>
                  <a:srgbClr val="00b0f0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MCj03974900000[1]"/>
          <p:cNvPicPr/>
          <p:nvPr/>
        </p:nvPicPr>
        <p:blipFill>
          <a:blip r:embed="rId1"/>
          <a:stretch/>
        </p:blipFill>
        <p:spPr>
          <a:xfrm>
            <a:off x="2971800" y="3886200"/>
            <a:ext cx="3429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c8004"/>
                </a:solidFill>
                <a:uFillTx/>
                <a:latin typeface="Arial"/>
                <a:ea typeface="Arial"/>
              </a:rPr>
              <a:t>Learning Styles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What are learning styl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800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identify the way a student learns bes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800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have nothing to do with a student’s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intelligence or abil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800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describe the way a student’s brain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processes, stores and retrieves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information most effective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ontent Placeholder 2"/>
          <p:cNvSpPr/>
          <p:nvPr/>
        </p:nvSpPr>
        <p:spPr>
          <a:xfrm>
            <a:off x="114300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actile/ Kinesthe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38080" y="12193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Three Main Learning Sty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C:\Users\dockensf\AppData\Local\Microsoft\Windows\Temporary Internet Files\Content.IE5\S9RIFP0Y\MCHM00051_0000[1].wmf"/>
          <p:cNvPicPr/>
          <p:nvPr/>
        </p:nvPicPr>
        <p:blipFill>
          <a:blip r:embed="rId1"/>
          <a:stretch/>
        </p:blipFill>
        <p:spPr>
          <a:xfrm>
            <a:off x="3886200" y="2057400"/>
            <a:ext cx="1066680" cy="94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 rot="20956200">
            <a:off x="4419720" y="3322800"/>
            <a:ext cx="582480" cy="876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dockensf\AppData\Local\Microsoft\Windows\Temporary Internet Files\Content.IE5\QFR562QU\MPj04332360000[1].jpg"/>
          <p:cNvPicPr/>
          <p:nvPr/>
        </p:nvPicPr>
        <p:blipFill>
          <a:blip r:embed="rId3"/>
          <a:stretch/>
        </p:blipFill>
        <p:spPr>
          <a:xfrm>
            <a:off x="6324480" y="4572000"/>
            <a:ext cx="8683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Characteristics of Visual Learner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79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earn best by seeing information and can recall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isual detai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member information presented in pictures,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harts, graphs, diagrams, movies, and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emonstr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isualize while they are reading and writing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oodle and have difficulty following lectur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nd oral instructions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an remember faces but have difficulty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membering na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efer to read silent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ike to write down instruc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7" name="Picture 2" descr="C:\Users\dockensf\AppData\Local\Microsoft\Windows\Temporary Internet Files\Content.IE5\S9RIFP0Y\MCHM00051_0000[1].wmf"/>
          <p:cNvPicPr/>
          <p:nvPr/>
        </p:nvPicPr>
        <p:blipFill>
          <a:blip r:embed="rId1"/>
          <a:stretch/>
        </p:blipFill>
        <p:spPr>
          <a:xfrm>
            <a:off x="6095880" y="990720"/>
            <a:ext cx="863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44:49Z</dcterms:created>
  <dc:creator>dockensf</dc:creator>
  <dc:description/>
  <dc:language>en-US</dc:language>
  <cp:lastModifiedBy>dockensf</cp:lastModifiedBy>
  <dcterms:modified xsi:type="dcterms:W3CDTF">2010-07-28T02:23:04Z</dcterms:modified>
  <cp:revision>297</cp:revision>
  <dc:subject/>
  <dc:title>Effectively Differentiate Instruction for  All Learning Styles with EduSmart Science</dc:title>
</cp:coreProperties>
</file>